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E587-4115-4B28-B6DB-AD0C4B59A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3969-38C6-4CD9-B296-0684E82EA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F082-A4CA-425A-BA3F-C4902C4FD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2359-74AE-4335-AE5C-90AC4E3D7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2200-4232-42A0-9F72-AD6A84A0B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075D-24F9-4223-8F0C-5C61E51B8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349E-513A-46E1-AF63-6BE1DC8CC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4D8D-1A80-4369-8158-2C6D95AE8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BF86-8727-4FE0-B957-615CCF817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5617-E686-418F-A883-E5E8E719B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93A5-7DB1-46D1-98D5-8923A2A8A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1696-9CB4-4349-BD63-5BD526827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56A8-FDCD-4A1B-BA34-3C9FE9AD0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1292-83C6-498A-BEC2-E1D8784C4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71B3-1EE5-4773-AF22-53B5FFC4B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58E7-754B-4544-B936-A8E115124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3102-BE0F-4C9F-8D1D-DD6EC18A1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A270-264B-4471-9B15-29356C552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2549-D6EF-4DBB-B347-A7C16F4F5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4163-B593-45E1-8EF8-8467E154B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F916-FA95-46A5-9899-C3B5DB580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07EA-5D6D-458E-AC24-24EE8B99E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1EA5-7F3B-4081-81D6-69E200888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29BC-7B61-442A-90DB-57D0C8D7F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5761-3631-498C-B1A3-586BEBC64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54C7-21F1-43BA-853A-DF9122775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7B23-3928-4696-9DAA-43437B254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DFDA-D2BD-4A73-BF1B-84F47C81F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A2B8-5BD5-42A8-AD79-BE23B512B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A4C3-14BC-4B7F-A49C-E8969741B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8363-169B-4146-9B15-227EA53E5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769E-466A-4688-91CB-A9AD90D6E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66A-4425-4B17-8C87-503A237D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3C3-F129-4271-A29E-67959B6A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48224-CAE7-4EBD-981C-D7BE698C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53FEA-331A-4B73-BB2D-8869A53B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A96BF-0210-453D-A2A6-8E650C5A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5D8C3-711A-4B7B-AA0F-75315297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56A66-F867-4669-A518-0476773E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9A905-0E5C-43D1-8355-A352EF2A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BE273-C11D-4466-B67E-215CD179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6F56E-8C06-4DF4-AF8B-B9CD6D12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1E2F5-9655-4966-BB50-4E2AA48C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7651E-9236-4ED8-946F-81FB2185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3A0-6C50-4D14-BE1A-E936945A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C8E96-237D-4E4B-BA73-7D1B5221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A08E8-A88C-4781-AA54-87A79B78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0885E-13A0-47BB-BB75-3F4D1D2A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8CD94-9977-4D62-ADD7-FE1B5440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6C1BF-5AD2-4CDD-BCFA-C940292A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DDFA0-4F04-4877-BBE6-FC979387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44CD6-9FB1-46AF-A0B3-40CFE7AB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58B51-4D79-4BF1-9548-11B99C7A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70987-00A6-4B60-8499-93729E35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0B0E9-50D5-4C1B-88DD-FE1E9925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DC6-2DDA-4C80-AA20-17F93C29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6A0B2-CCE1-4D19-BCD0-07765D36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C85BF-A8A4-4537-9DA2-A51D242D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773FB-C412-491A-8C0D-66BCA4BE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F367D-77DB-43A4-AB11-74AA5B6C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E1113-C184-4C94-937A-AD36D20F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FAC31-71EB-4395-98ED-FFE905F8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457DE-0917-498D-B82E-19ECA793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CBF7E-A5B2-4A77-A138-BE979E6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08AF6-12B0-4E03-958F-E884E96C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A794E-4B8A-4D92-87ED-9130BDF2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79C9-4989-449C-BEDF-48BB0B01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355CE-925F-48E0-93D7-FF8CAAFE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A50F0-DA24-4D59-BBD8-A14598A3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36C31-356C-4597-B03A-019B8613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8B92F-ED3B-435E-9A4B-6E212BCB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472BE-A341-4A14-979C-7FB1B5A2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1B4B1-446A-44F9-9932-6B0E0D0A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2F414-25D2-41DF-91DF-ACCAF308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58766-9C9C-4088-AAE2-1DFCE1C9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7F7E8-3B5B-4ECC-B15B-8B3D2F82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14694-3324-4865-BD32-9B2A4C41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00D1-044C-4F81-A731-BA7B2037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08E2D-2AF5-4842-9E6E-72E7B686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C58BF-7B0E-48E2-817F-E3CB7D4D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98CA4-CBB0-4472-A007-4D603BA6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05F82-E3F8-4832-A735-14BCC939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4974A-864F-45A7-A67A-4E14F93E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0D6C-B71C-4663-AA38-6245AE36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3603-FE47-4385-8139-E8C2FDFF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4618-CCAD-4846-AA97-AB3325FF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3828-2AA4-4257-8845-0F394678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EF45-F6E9-427F-868C-A830EF7D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BB1-FED0-471E-BDE9-009586DB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85BA-58E3-4865-8C12-404CB297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E1E5-1505-4238-A337-E07F7B88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7E23-9376-4219-BE5D-A20AD884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5566-B705-4EC2-8A61-C5CB8CFB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7385-CB94-464D-8843-5928CD71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B859-AF6A-434C-A8AA-12DD1DB6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853D-3D3B-4C05-A1CB-9FEA1CB2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2F992-FFFF-44F1-A787-DC8A6DDA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621A-E42A-409B-9D40-BC36AFDE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A406-F141-4012-ADE7-750B2166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DB3-1B3A-49EE-A5BE-238DE317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7C15-53CD-4560-BCCC-8CF53AB5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FB62-BE94-4767-A42E-88CAE322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B79F8-7C51-4EA9-994B-BCD4EDF0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3965-8F16-4B72-A33C-FC52FE55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A7102-6966-492A-B53B-DB7E2BE0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65C86-FC7F-4047-8583-CA8B0E03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7705D-352D-424A-92B3-97E3E5E0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CFB2E-F015-423E-955F-37000AED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AE060-8049-457E-8A6D-EE799AC7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B39CC-AABB-409D-95EC-0EE3F79A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7B7-633B-4206-AB7E-8748C044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FDB92-B6CE-4728-935E-7E2D149B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4A76A-9187-4157-BE3C-DB28609F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F3457-5914-4563-BD62-E1A9E921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8D12B-AA2E-4B15-B88F-752CC990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251FA-DBB9-4D8A-8986-BB479BCC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A0D80-4B3A-4200-B524-538F390D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FC6EC-D3EB-45A1-8760-CD80B469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A934-A0F2-4A95-AE9B-9C7E2376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38D7D-E14B-4600-86F5-1917FFCF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57940-24FB-46BA-9066-F2E9511F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05D-D102-4046-9FBD-23CA05D4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94994-66F4-475E-8553-56CDD577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9F558-AA30-4F8C-862F-A26CC5F5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1394A-2D9D-4DE8-ACB5-E9803504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9D5F5-3F07-4B19-8662-B6DB1876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3D69E-D679-4828-B274-E4DA0257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BF320-6B27-4641-85BE-A2AD9B7F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FE436-A094-40C0-AA36-456360EA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FA94F-6A3E-4D78-894D-BAD61414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3A13C-254D-4EB5-BE95-D029D12A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FDEB2-D02C-4DD8-96CE-F87DAFEC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D5C-49D6-4F87-95F9-8376B539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090CF-CB3E-4A7A-B3AC-BE639830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363A7-953A-4262-AB43-840455D6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A65AB-C247-4733-8981-F2B92B4A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5909E-418D-4046-81BE-0358A8C4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2943D-465A-4CB2-89E5-47087C06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A1ED0-BE20-416F-AF0B-97656E00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50D7E-82AD-4E5B-985C-AB8DC9CC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E2150-15BF-4474-8D43-D8463337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80FDE-2694-4AAA-A14C-05E373FD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7570B-49EE-441A-B27B-10FEEBFB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DEA-51F9-4E84-978E-D44421D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B700B-C269-4E50-8F21-B4E19870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45556-D83C-4B45-9F36-5A52BB68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221A5-4E31-4485-B46A-E37C48D6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AD585-93E5-464A-A921-56C6F1B3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7F197-688C-4F0C-817C-D069862C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6BB42-0168-4FC7-871E-77C080C4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0DF05-E94A-4EE5-AAD0-3307ADE1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969B8-0BEA-47CC-A764-A531CC7A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9DE87-66A7-4BA5-8BCB-62718116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DEED1-9C7B-4552-9FC5-6D446FFA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143-E465-4FD4-AEFA-0CD31615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36980-354B-444B-8D32-F38A11CE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C9637-B19B-4950-9B6E-56536CAD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27F92-A921-4A0C-BDBC-0F0E6543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D4851-A8A9-40D9-AB0C-344407A4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F75C4-2395-43D0-99AC-5011173D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9D5A0-C5F3-4CE6-9BC5-C3B6F0DC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844E9-1B92-45D7-ACF8-C2128DC1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0C571-7DC0-48BA-8936-857FF83E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2A60C-15C2-4739-94A6-ECEAED2F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EAB3A-DD92-4539-960B-6D080EA3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B65-60E3-4C0D-B220-9CB8BE6D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B282C-C634-4DF2-AEF0-F98653EB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D1CF1-6D6D-4F2C-AA3F-7EF199A5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69A07-2C8B-4385-975C-067C5B86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ACA94-CC62-47AA-B04D-3D22F61D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00133-521B-4DA9-AC60-A53C1B25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82254-5F04-46B6-A1A6-FA5A4FF0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3ACB6-A6CA-4A56-8953-2ABD32CA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1B5E8-9F83-4C9B-B5E4-D37D2B3F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97E98-6DDF-45A0-A4CE-087C7977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891B6-26BD-4A02-AC20-3845408C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6454-4A2B-40D4-8B21-98B6EF0F3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BBC5-2657-4846-BE23-32D4760C2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CF2C-D064-4414-8927-0F5717193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EE25-F330-44A7-9073-43420C8A2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4DE0-C6C8-494B-9B2B-F4C8E72A3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314D-3F62-4C65-BA2C-DCCE7E31E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2159-E638-4AF3-AEED-E03C0E3C5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3AB3-0CA8-45BE-9592-049E46911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58E0-6608-408C-A92B-5821347BD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00E9-B507-419F-ABAB-E7188A0F9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1541-08DD-4671-8555-94EEABD26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30C8-6DF9-486B-9914-B7488F8AD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1">
            <a:hlinkClick r:id="rId5" action="ppaction://hlinksldjump"/>
          </p:cNvPr>
          <p:cNvSpPr/>
          <p:nvPr/>
        </p:nvSpPr>
        <p:spPr>
          <a:xfrm>
            <a:off x="18288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2">
            <a:hlinkClick r:id="rId7" action="ppaction://hlinksldjump"/>
          </p:cNvPr>
          <p:cNvSpPr/>
          <p:nvPr/>
        </p:nvSpPr>
        <p:spPr>
          <a:xfrm>
            <a:off x="18288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3">
            <a:hlinkClick r:id="rId9" action="ppaction://hlinksldjump"/>
          </p:cNvPr>
          <p:cNvSpPr/>
          <p:nvPr/>
        </p:nvSpPr>
        <p:spPr>
          <a:xfrm>
            <a:off x="18288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6"/>
          <p:cNvSpPr/>
          <p:nvPr/>
        </p:nvSpPr>
        <p:spPr>
          <a:xfrm>
            <a:off x="36576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7"/>
          <p:cNvSpPr/>
          <p:nvPr/>
        </p:nvSpPr>
        <p:spPr>
          <a:xfrm>
            <a:off x="36576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8"/>
          <p:cNvSpPr/>
          <p:nvPr/>
        </p:nvSpPr>
        <p:spPr>
          <a:xfrm>
            <a:off x="36576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1"/>
          <p:cNvSpPr/>
          <p:nvPr/>
        </p:nvSpPr>
        <p:spPr>
          <a:xfrm>
            <a:off x="54864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2"/>
          <p:cNvSpPr/>
          <p:nvPr/>
        </p:nvSpPr>
        <p:spPr>
          <a:xfrm>
            <a:off x="54864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3"/>
          <p:cNvSpPr/>
          <p:nvPr/>
        </p:nvSpPr>
        <p:spPr>
          <a:xfrm>
            <a:off x="54864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6"/>
          <p:cNvSpPr/>
          <p:nvPr/>
        </p:nvSpPr>
        <p:spPr>
          <a:xfrm>
            <a:off x="731520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7"/>
          <p:cNvSpPr/>
          <p:nvPr/>
        </p:nvSpPr>
        <p:spPr>
          <a:xfrm>
            <a:off x="7315200" y="2895480"/>
            <a:ext cx="1828800" cy="190512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05120"/>
              <a:gd name="textAreaBottom" fmla="*/ 1786680 h 1905120"/>
            </a:gdLst>
            <a:ahLst/>
            <a:rect l="textAreaLeft" t="textAreaTop" r="textAreaRight" b="textAreaBottom"/>
            <a:pathLst>
              <a:path w="21600" h="22501">
                <a:moveTo>
                  <a:pt x="0" y="0"/>
                </a:moveTo>
                <a:lnTo>
                  <a:pt x="21600" y="0"/>
                </a:lnTo>
                <a:lnTo>
                  <a:pt x="21600" y="22501"/>
                </a:lnTo>
                <a:lnTo>
                  <a:pt x="0" y="22501"/>
                </a:lnTo>
                <a:close/>
              </a:path>
              <a:path fill="lightenLess" w="21600" h="225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01">
                <a:moveTo>
                  <a:pt x="21600" y="0"/>
                </a:moveTo>
                <a:lnTo>
                  <a:pt x="21600" y="22501"/>
                </a:lnTo>
                <a:lnTo>
                  <a:pt x="20200" y="21101"/>
                </a:lnTo>
                <a:lnTo>
                  <a:pt x="20200" y="1400"/>
                </a:lnTo>
                <a:close/>
              </a:path>
              <a:path fill="darkenLess" w="21600" h="22501">
                <a:moveTo>
                  <a:pt x="21600" y="22501"/>
                </a:moveTo>
                <a:lnTo>
                  <a:pt x="0" y="22501"/>
                </a:lnTo>
                <a:lnTo>
                  <a:pt x="1400" y="21101"/>
                </a:lnTo>
                <a:lnTo>
                  <a:pt x="20200" y="21101"/>
                </a:lnTo>
                <a:close/>
              </a:path>
              <a:path fill="lighten" w="21600" h="22501">
                <a:moveTo>
                  <a:pt x="0" y="225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0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8"/>
          <p:cNvSpPr/>
          <p:nvPr/>
        </p:nvSpPr>
        <p:spPr>
          <a:xfrm>
            <a:off x="7315200" y="4800600"/>
            <a:ext cx="1828800" cy="20574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057400"/>
              <a:gd name="textAreaBottom" fmla="*/ 1938960 h 2057400"/>
            </a:gdLst>
            <a:ahLst/>
            <a:rect l="textAreaLeft" t="textAreaTop" r="textAreaRight" b="textAreaBottom"/>
            <a:pathLst>
              <a:path w="21600" h="24299">
                <a:moveTo>
                  <a:pt x="0" y="0"/>
                </a:moveTo>
                <a:lnTo>
                  <a:pt x="21600" y="0"/>
                </a:lnTo>
                <a:lnTo>
                  <a:pt x="21600" y="24299"/>
                </a:lnTo>
                <a:lnTo>
                  <a:pt x="0" y="24299"/>
                </a:lnTo>
                <a:close/>
              </a:path>
              <a:path fill="lightenLess" w="21600" h="242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9">
                <a:moveTo>
                  <a:pt x="21600" y="0"/>
                </a:moveTo>
                <a:lnTo>
                  <a:pt x="21600" y="24299"/>
                </a:lnTo>
                <a:lnTo>
                  <a:pt x="20200" y="22900"/>
                </a:lnTo>
                <a:lnTo>
                  <a:pt x="20200" y="1400"/>
                </a:lnTo>
                <a:close/>
              </a:path>
              <a:path fill="darkenLess" w="21600" h="24299">
                <a:moveTo>
                  <a:pt x="21600" y="24299"/>
                </a:moveTo>
                <a:lnTo>
                  <a:pt x="0" y="24299"/>
                </a:lnTo>
                <a:lnTo>
                  <a:pt x="1400" y="22900"/>
                </a:lnTo>
                <a:lnTo>
                  <a:pt x="20200" y="22900"/>
                </a:lnTo>
                <a:close/>
              </a:path>
              <a:path fill="lighten" w="21600" h="24299">
                <a:moveTo>
                  <a:pt x="0" y="242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40"/>
          <p:cNvSpPr/>
          <p:nvPr/>
        </p:nvSpPr>
        <p:spPr>
          <a:xfrm>
            <a:off x="0" y="114300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059"/>
          <p:cNvSpPr/>
          <p:nvPr/>
        </p:nvSpPr>
        <p:spPr>
          <a:xfrm>
            <a:off x="485280" y="1676520"/>
            <a:ext cx="82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tough polyester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to make bullet proof v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Kevl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040"/>
          <p:cNvSpPr/>
          <p:nvPr/>
        </p:nvSpPr>
        <p:spPr>
          <a:xfrm>
            <a:off x="-121320" y="1752480"/>
            <a:ext cx="931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variation of polyethylene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in crinkly opaque plastics b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D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physical properties of polymer can be changed by shortening or lengthening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h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DPE is transparent whereas HDPE is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paq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polymerization of highly branched monomers result in this type of solid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morehou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299880" y="990720"/>
            <a:ext cx="854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Name this Poly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" descr="Teflon_structure.PNG"/>
          <p:cNvPicPr/>
          <p:nvPr/>
        </p:nvPicPr>
        <p:blipFill>
          <a:blip r:embed="rId1"/>
          <a:stretch/>
        </p:blipFill>
        <p:spPr>
          <a:xfrm>
            <a:off x="2438280" y="2133720"/>
            <a:ext cx="4183200" cy="365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small molecules are the basic units of poly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mono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The structural formula of a polymer uses these to indicate a repeating unit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hat are parenthe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structural formula of a polymer, a variable (oft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used to represent thi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hain leng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 polymerization reactions typically occur between these types of aliphatic hydrocarb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lxen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densation polymerization results in the elimination of a smaller molecules. A common by product i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hat is Polyterafluoroethan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fl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1034"/>
          <p:cNvSpPr/>
          <p:nvPr/>
        </p:nvSpPr>
        <p:spPr>
          <a:xfrm>
            <a:off x="4098960" y="15210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35"/>
          <p:cNvSpPr/>
          <p:nvPr/>
        </p:nvSpPr>
        <p:spPr>
          <a:xfrm>
            <a:off x="-187200" y="1219320"/>
            <a:ext cx="95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roduc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merization of octandioic acid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mino octa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ylon 6,6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2228400" y="1322280"/>
            <a:ext cx="468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ame This Poly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1" descr="218px-Polystyrene.svg.png"/>
          <p:cNvPicPr/>
          <p:nvPr/>
        </p:nvPicPr>
        <p:blipFill>
          <a:blip r:embed="rId1"/>
          <a:stretch/>
        </p:blipFill>
        <p:spPr>
          <a:xfrm>
            <a:off x="3187800" y="2666880"/>
            <a:ext cx="2768400" cy="3302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lystyre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vinylbenze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6"/>
          <p:cNvSpPr/>
          <p:nvPr/>
        </p:nvSpPr>
        <p:spPr>
          <a:xfrm>
            <a:off x="2422080" y="103680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ame this Poly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1" descr="mfcd00197928.png"/>
          <p:cNvPicPr/>
          <p:nvPr/>
        </p:nvPicPr>
        <p:blipFill>
          <a:blip r:embed="rId1"/>
          <a:stretch/>
        </p:blipFill>
        <p:spPr>
          <a:xfrm>
            <a:off x="2730600" y="2362320"/>
            <a:ext cx="3682800" cy="238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hat is polybutylacetate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olybutylethano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065"/>
          <p:cNvSpPr/>
          <p:nvPr/>
        </p:nvSpPr>
        <p:spPr>
          <a:xfrm>
            <a:off x="1319760" y="1905120"/>
            <a:ext cx="649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is polymer is commonl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sed in the making of pi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lyvinylchlori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VC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ser</cp:lastModifiedBy>
  <dcterms:modified xsi:type="dcterms:W3CDTF">2012-09-30T13:21:40Z</dcterms:modified>
  <cp:revision>49</cp:revision>
  <dc:subject/>
  <dc:title>No Slide Title</dc:title>
</cp:coreProperties>
</file>